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197-448A-4851-B900-D28A27F2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0FA-D7C0-4B1C-B769-DF53ED40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512-CFC8-4B82-8E8D-A608E3D9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BD6-9627-4F90-8BC6-25FC8AE7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1A06-E66A-462E-9F2D-EF2BE371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69D0-5988-4737-A1BF-DD59D38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199D-DE04-480D-B756-623AC424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E651-39C7-4E0D-9F38-E19E00C6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3551-325E-4516-8E61-862975D1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37AC-3EE0-4613-AFE6-2F24D244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CE38-2B86-4C17-AF24-5E3E39B8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5A1-6C0F-4484-AD7A-DCC8A9EE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6648-C77B-40D3-B2CC-E2E3707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7DAE-2155-4942-81A2-C2D3786D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9BFB-A4F4-4804-91AE-AE911B2B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97ED-A92E-4DCB-B18B-36CA9240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A2EE-3B5B-49E0-B7B3-445911B1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8F0-D0DC-42EB-9958-24241EE1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4BD-9AE4-4DA1-B631-DBB546B8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5A5-14DD-4116-8C6B-86D318C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4A0-39BB-4307-B8C3-AE54DAFF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08B-48D8-4788-A73A-6D07C758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F0F-A9CC-4994-9B7E-7F6122AB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9E3-7A22-4F0B-89BE-BF05DAFE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FA49-57AD-47B7-8A6D-584A8FA971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C38B-0835-46CF-8B00-3D381F60CA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.uvic.ca/history-robinso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bc.co.uk/history/war/normans/launch_gms_battle_hastings.shtml" TargetMode="External"/><Relationship Id="rId2" Type="http://schemas.openxmlformats.org/officeDocument/2006/relationships/hyperlink" Target="http://www.bbc.co.uk/history/british/normans/launch_gms_battle_hastings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skeletons.org/" TargetMode="External"/><Relationship Id="rId2" Type="http://schemas.openxmlformats.org/officeDocument/2006/relationships/hyperlink" Target="http://www.eskeletons.org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ybermission.com/index_flash.cf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aamath.com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d.ucla.edu/wilkes/inex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r.chem.cmu.edu/irproject" TargetMode="External"/><Relationship Id="rId2" Type="http://schemas.openxmlformats.org/officeDocument/2006/relationships/hyperlink" Target="http://www.chemcollective.org/vlab/vlab.php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tarfall.com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tarfall.com/" TargetMode="External"/><Relationship Id="rId2" Type="http://schemas.openxmlformats.org/officeDocument/2006/relationships/hyperlink" Target="http://www.powertyping.com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roguts.com/flash_content/index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bc.co.uk/arts/multimedia/dickens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istance-simulations.com/cwol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ftb.org/dnaftb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ngo.com/math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rticle19.com/shockwave/oz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adsworth.com/psychology_d/templates/student_resources/0534633609_sniffy2/sniffy/download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gitalenterprise.or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n.ucc.nau.edu/~tas3/wtc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jan.ucc.nau.edu/~tas3/wtc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assification Exercise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Who Killed William Robinson?</a:t>
            </a: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5" name="Text Box 3">
            <a:hlinkClick r:id="rId1"/>
          </p:cNvPr>
          <p:cNvSpPr/>
          <p:nvPr/>
        </p:nvSpPr>
        <p:spPr>
          <a:xfrm>
            <a:off x="2333880" y="121932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eb.uvic.ca/history-robinson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e Battle of Hasting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9" name="Text Box 3">
            <a:hlinkClick r:id="rId1"/>
          </p:cNvPr>
          <p:cNvSpPr/>
          <p:nvPr/>
        </p:nvSpPr>
        <p:spPr>
          <a:xfrm>
            <a:off x="584280" y="121932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bbc.co.uk/history/british/normans/launch_gms_battle_hastings.shtm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e eSkeletons Projec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3" name="Text Box 3">
            <a:hlinkClick r:id="rId1"/>
          </p:cNvPr>
          <p:cNvSpPr/>
          <p:nvPr/>
        </p:nvSpPr>
        <p:spPr>
          <a:xfrm>
            <a:off x="2988720" y="12193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skeletons.org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ECybernission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Text Box 3">
            <a:hlinkClick r:id="rId1"/>
          </p:cNvPr>
          <p:cNvSpPr/>
          <p:nvPr/>
        </p:nvSpPr>
        <p:spPr>
          <a:xfrm>
            <a:off x="1612080" y="1219320"/>
            <a:ext cx="59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ecybermission.com/index_flash.cf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AAA Math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3" name="Text Box 3">
            <a:hlinkClick r:id="rId1"/>
          </p:cNvPr>
          <p:cNvSpPr/>
          <p:nvPr/>
        </p:nvSpPr>
        <p:spPr>
          <a:xfrm>
            <a:off x="3102480" y="121932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http://www.aaamath.com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e  Auscultation Assistan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7" name="Text Box 3">
            <a:hlinkClick r:id="rId1"/>
          </p:cNvPr>
          <p:cNvSpPr/>
          <p:nvPr/>
        </p:nvSpPr>
        <p:spPr>
          <a:xfrm>
            <a:off x="2009160" y="1219320"/>
            <a:ext cx="51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med.ucla.edu/wilkes/inex.ht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The Virtual Chemistry Laboratory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1" name="Text Box 3">
            <a:hlinkClick r:id="rId1"/>
          </p:cNvPr>
          <p:cNvSpPr/>
          <p:nvPr/>
        </p:nvSpPr>
        <p:spPr>
          <a:xfrm>
            <a:off x="2268720" y="1244520"/>
            <a:ext cx="46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hemcollective.org/vlab/vlab.php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STARFALL READING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Text Box 3">
            <a:hlinkClick r:id="rId1"/>
          </p:cNvPr>
          <p:cNvSpPr/>
          <p:nvPr/>
        </p:nvSpPr>
        <p:spPr>
          <a:xfrm>
            <a:off x="3082680" y="121932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starfall.co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PowerTyping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9" name="Text Box 3">
            <a:hlinkClick r:id="rId1"/>
          </p:cNvPr>
          <p:cNvSpPr/>
          <p:nvPr/>
        </p:nvSpPr>
        <p:spPr>
          <a:xfrm>
            <a:off x="2855520" y="1219320"/>
            <a:ext cx="343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wertyping.com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Frog Gut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3" name="Text Box 3">
            <a:hlinkClick r:id="rId1"/>
          </p:cNvPr>
          <p:cNvSpPr/>
          <p:nvPr/>
        </p:nvSpPr>
        <p:spPr>
          <a:xfrm>
            <a:off x="3061440" y="121932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froguts.co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eff1"/>
                </a:solidFill>
                <a:latin typeface="Arial Black"/>
              </a:rPr>
              <a:t>Classify The Following Educational Software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rill and Practi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nstructional Ga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Survive Dickens’ London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7" name="Text Box 3">
            <a:hlinkClick r:id="rId1"/>
          </p:cNvPr>
          <p:cNvSpPr/>
          <p:nvPr/>
        </p:nvSpPr>
        <p:spPr>
          <a:xfrm>
            <a:off x="1684440" y="1219320"/>
            <a:ext cx="57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bbc.co.uk/arts/multimedia/dickens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Civil War Onlin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61" name="Text Box 3">
            <a:hlinkClick r:id="rId1"/>
          </p:cNvPr>
          <p:cNvSpPr/>
          <p:nvPr/>
        </p:nvSpPr>
        <p:spPr>
          <a:xfrm>
            <a:off x="1612440" y="1219320"/>
            <a:ext cx="59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distance-simulations.com/cwol.htm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Cells Aliv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934000" y="121932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cellsalive.co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Crisis at Fort Sumter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946600" y="1219320"/>
            <a:ext cx="39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tulane.edu/~sumter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Music Acoustic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20840" y="121932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phys.unsw.edu.au/music/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Authentic Assessment Toolbox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84880" y="1219320"/>
            <a:ext cx="73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jonathan.mueller.faculty.noctrl.edu/toolbox/index.ht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een Biz 3000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819880" y="114300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http://www.achieve3000.com/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Assessing Blood Pressur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629800" y="12193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132.241.10.14/bp/bp.htm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Study Island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622240" y="1219320"/>
            <a:ext cx="36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studyisland.com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at Quiz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619360" y="121932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thatquiz.org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DNA From the Beginning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7" name="Text Box 3">
            <a:hlinkClick r:id="rId1"/>
          </p:cNvPr>
          <p:cNvSpPr/>
          <p:nvPr/>
        </p:nvSpPr>
        <p:spPr>
          <a:xfrm>
            <a:off x="2707920" y="121932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dnaftb.org/dnaftb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Math Baseball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1" name="Text Box 3">
            <a:hlinkClick r:id="rId1"/>
          </p:cNvPr>
          <p:cNvSpPr/>
          <p:nvPr/>
        </p:nvSpPr>
        <p:spPr>
          <a:xfrm>
            <a:off x="2687040" y="12193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prongo.com/math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e Ohm Zon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Text Box 3">
            <a:hlinkClick r:id="rId1"/>
          </p:cNvPr>
          <p:cNvSpPr/>
          <p:nvPr/>
        </p:nvSpPr>
        <p:spPr>
          <a:xfrm>
            <a:off x="1823040" y="121932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article19.com/shockwave/oz.ht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Sniffy, The Virtual R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Text Box 3">
            <a:hlinkClick r:id="rId1"/>
          </p:cNvPr>
          <p:cNvSpPr/>
          <p:nvPr/>
        </p:nvSpPr>
        <p:spPr>
          <a:xfrm>
            <a:off x="125280" y="1295280"/>
            <a:ext cx="90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http://www.wadsworth.com/psychology_d/templates/student_resources/0534633609_sniffy2/sniffy/download.htm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Managing the Digital Enterprise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3" name="Text Box 3">
            <a:hlinkClick r:id="rId1"/>
          </p:cNvPr>
          <p:cNvSpPr/>
          <p:nvPr/>
        </p:nvSpPr>
        <p:spPr>
          <a:xfrm>
            <a:off x="2531160" y="12193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digitalenterprise.org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eff1"/>
                </a:solidFill>
                <a:latin typeface="Arial Black"/>
              </a:rPr>
              <a:t>The Fugues of the Well-Tempered Clavier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Text Box 3">
            <a:hlinkClick r:id="rId1"/>
          </p:cNvPr>
          <p:cNvSpPr/>
          <p:nvPr/>
        </p:nvSpPr>
        <p:spPr>
          <a:xfrm>
            <a:off x="2251440" y="1219320"/>
            <a:ext cx="46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jan.ucc.nau.edu/~tas3/wtc.htm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eff1"/>
                </a:solidFill>
                <a:latin typeface="Arial Black"/>
              </a:rPr>
              <a:t>The Fugues of the Well-Tempered Clavier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1" name="Text Box 3">
            <a:hlinkClick r:id="rId1"/>
          </p:cNvPr>
          <p:cNvSpPr/>
          <p:nvPr/>
        </p:nvSpPr>
        <p:spPr>
          <a:xfrm>
            <a:off x="2251440" y="1219320"/>
            <a:ext cx="46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jan.ucc.nau.edu/~tas3/wtc.htm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22:51:18Z</dcterms:created>
  <dc:creator>Long</dc:creator>
  <dc:description/>
  <dc:language>en-US</dc:language>
  <cp:lastModifiedBy>Long</cp:lastModifiedBy>
  <dcterms:modified xsi:type="dcterms:W3CDTF">2011-02-06T17:49:36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